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450-1FB0-4788-A1B2-5874E176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554-37AF-47B9-BEEC-FF16840C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3FC-842F-4227-B5B2-00E9A9AC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E963-1BAA-4160-90D1-9C12CD35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0318-FF7F-46F2-B46C-78B782EA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283-3EBD-471D-9873-F1B94E9D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D1DD-A9EC-444E-BED4-51E14E6D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54F-271E-495A-861B-BC8F9C6A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62B4-CBFD-4825-A97C-DEB5E8FB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8F59-C7C8-423C-9467-6A59957B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382A-5676-4729-8EED-2936B224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F85-2517-47E5-B0CE-8650D418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F969-BE9A-430B-AC39-61CD16A33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em720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5344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n720" descr=""/>
          <p:cNvPicPr/>
          <p:nvPr/>
        </p:nvPicPr>
        <p:blipFill>
          <a:blip r:embed="rId1"/>
          <a:stretch/>
        </p:blipFill>
        <p:spPr>
          <a:xfrm>
            <a:off x="2057400" y="0"/>
            <a:ext cx="2641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00:27:21Z</dcterms:created>
  <dc:creator>geoff lyon</dc:creator>
  <dc:description/>
  <dc:language>en-US</dc:language>
  <cp:lastModifiedBy>geoff lyon</cp:lastModifiedBy>
  <dcterms:modified xsi:type="dcterms:W3CDTF">2001-10-13T00:27:54Z</dcterms:modified>
  <cp:revision>1</cp:revision>
  <dc:subject/>
  <dc:title>PowerPoint Presentation</dc:title>
</cp:coreProperties>
</file>